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1BD8-4264-4082-AF8E-3D995195AA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89C0-13E0-407E-8909-3615ACD2949B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C8C7-F865-491E-88DD-62D32ACD55EA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63E7-8024-4450-887C-6CDDCB69F960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C14-A0E9-4EF2-84F3-9597C2D5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71C-140B-48C2-9F02-699506C3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600DF-336C-4B78-9779-23582E0D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99B8D-270C-44A5-8CF1-A86B3A02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9CD60-A996-40DE-8877-1B60CE16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076E2-BAF9-4DD8-9063-B4BC5F3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D8F0F-9128-4FF5-80B9-CE3380C2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08E5B-63A7-49C1-B4EA-691E3DAB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90571-1698-417A-BA67-21CB82D0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823CD-A1B0-4BB0-B768-014A6E56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46887-E9AE-4A53-8D76-F09E836E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1AA22-A06B-417D-9292-38B1259B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043-14CA-49BC-A4A8-A9E8959E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90471-181E-4BC5-ACB5-BA3ED9AD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487C6-0626-4BC9-B4B7-12803EDC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3FBE8-9CD8-49D4-ABDB-92567A78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D2A7F-4491-4924-8F9A-C8182A2F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0F9B-3A89-4CEB-AF43-615D347C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DBBAD-5051-4BCE-8ACE-932B35CA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6608E-36BE-4C53-9C7B-EDB8F4E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51719-E1F1-4E55-847D-9C3FA6DC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920C9-8DDC-439F-891A-84F597C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0CEF4-D251-4261-BE67-B0E9592A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953-60C2-4EFF-987F-543CD8C5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D6731-1CCF-4E6A-978A-67B2F76E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8D4C-AB34-4EE9-A068-6D0A4D84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ABDF-D430-4AAB-914E-99480FB7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1128-CD0D-449A-8FA2-F25BF6FA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8AAC-51C2-439A-AA46-F6478D43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CCE0-D708-4C21-A2FF-51C26D4E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6D2-950F-4E9B-8247-D45A2531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20C2-FBB9-4E27-84D8-07C1961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DF7-90BE-4736-88A3-F76889AB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47F0-A147-468B-92C5-E42B6A7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0D50-EBA5-4E14-905E-B802595E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3946-9E2A-4228-9FBF-3BFA432D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E11B-1519-4B1C-8972-07374EB1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4CEC-4648-4E1F-B6DD-153FA0EE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1FE8-4E4A-4814-A36F-D87F6555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0100-48AD-4040-BB35-A52D776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81DD-0574-4322-923B-CF11537A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A465-9D77-4CC5-93BF-41874CC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5021-E3BF-4F62-A051-113743CA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16B-5F83-48A3-B817-AEF28346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7F54-6739-4F4A-8C20-EB159E30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B514-C5FE-4E52-AEB7-22428C57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BD5AB-4D94-446D-B589-8D1FF7A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7C7D-8010-4DE7-8364-2FA07E0D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A42A-7D96-478A-82B8-5A739F68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F682-8F5E-4BD8-8536-07621CEF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9D10-5F70-4D79-8602-3D6C018F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96EA-FFBE-45B0-8285-58BD9D87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6AFA-3D9B-4925-B2A6-3C81B2D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5544-17CE-4A39-BB88-3FD6C718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23F-86C8-4BBC-8FF6-E6CE47F2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D1A3-45E0-4D35-9088-E6DD55B9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565C-8081-4B2E-BD43-C620F24C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0AE60-35A9-4F3C-9F31-B46E7019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B283F-E337-48EB-B1C7-E25DB88B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A07BE-05C5-4E75-9878-2C2BE5AC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11C28-1B8B-48B8-9B3C-87D9A1B0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0E70-B8AC-4C75-8140-3B604DB8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B830-900A-4865-AAF4-3F5A1D5F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7DB8-1C80-413E-9988-178AF619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C797-CFA0-473B-81D7-9111D5D8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AF0-2BC1-494D-B70F-4FA94E6D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E867-6E08-41B6-8252-F0722567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F22D3-D5FE-4B54-9C72-40663BB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9F74E-F062-4F30-847D-2679C19F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B480F-842E-43F2-A80C-70F40F08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97D88-B1F0-4E8D-9A8F-4FEB67E2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AA45-FBD2-4DB6-8256-2B29CA9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61D69-8F4B-4688-B97E-B6BCEAD6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4DE15-A341-403A-82FD-C49BCA37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6987-EB5A-42D5-BE0F-451433A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E9FA-AEA5-4D8D-AF7F-F8D966D4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1B8-0C40-4E0F-946F-6D8EDD9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D7382-3881-4083-A7B7-35CF9175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96C30-31FE-45D4-9B1F-6FB30D01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DD85C-4D8E-49CF-9328-DFDDB5D6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5A30-BFDB-4F36-9E7B-DCC848A3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F25F-40DF-4944-AA81-BA90D8C6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F7CE-1007-41A0-899D-BD87C45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D4296-B828-492A-AC54-CF1BDCDF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84A82-15DC-4A49-ABAB-8B630CD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848BF-E544-4D98-A090-CFDE6C5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C5F3C-6174-4DA1-AF06-32D93046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E5D-6734-43B1-9DA2-33E78EA9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AD440-1E8A-4266-ADE3-391F7158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61300-79DF-4A50-BADC-4A57AB49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2CF9-F8A8-45C8-93AE-0A639E50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427A0-8B2C-48C8-B2F0-0D10F014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E7BB3-DFC5-4C9C-8B6F-928F0A5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3DC7-49D8-4225-9544-2553FA28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BB1B9-6FC1-422B-B973-8E7D24F4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F3E4F-4726-42D6-9A17-B169A485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618CE-FBC9-47DA-9DE8-B05A67DC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B205-3B2D-42E1-9EE1-B3A33138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B7D-5CF4-40C9-9F9E-3E705B1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95697-DA88-4AED-859C-3C657D4F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FCF1-3A32-42B1-893E-167A69E6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26D0C-0792-4C2B-A8E1-15A57BFE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AC853-0AE8-4DDC-9F5B-457A08DE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32CB7-584C-462C-85A1-D2F4F581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0B9CF-A110-4552-A9DF-FAAA290D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C7579-3F73-43A5-8C22-2FF54419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A21E7-2270-41EE-8E61-5CC04645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D1B91-14D2-47F2-B48A-5110B653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6E96A-00ED-47FD-84F7-CC323A6A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7E3-FEC8-41AC-B70B-176FBFBE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50920" y="169560"/>
            <a:ext cx="86421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6D805-1751-469F-83B8-29D48B0B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A261A-4618-4EBD-B303-ACA41950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C4D6-F224-4FA3-B57F-5F1CE63D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37C18-3085-43EF-A067-270A868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250920" y="3972600"/>
            <a:ext cx="86421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C16D4-DB11-4E0D-982A-08D21C04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9280" y="149544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5092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9280" y="3972600"/>
            <a:ext cx="4217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15B72-0298-490D-95FF-DC991CBF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7304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4800" y="149544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25092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17304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94800" y="3972600"/>
            <a:ext cx="2782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3E271-F7D5-4073-96F2-574578E2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63964-92AD-4794-A99F-9D30A4B0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3895-7C65-4AF9-ABCD-5CF2F5C9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84EE3-0A5A-424E-BB5F-5024E75F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41440"/>
            <a:ext cx="86421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A52A-6FBE-4DF7-A299-4A9AF4CC279C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9191520" cy="7668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D3CA-9E72-4EC4-B840-12EB3621252F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8FC3-8E62-41E1-A8C3-6372A4B524E8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9191520" cy="766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50920" y="1441440"/>
            <a:ext cx="86421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0032-876A-43CD-9CB6-45FC2203DECF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9191520" cy="766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50920" y="1441440"/>
            <a:ext cx="86421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5E9-46FA-4ABC-9B4D-57D46E18305C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9191520" cy="766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50920" y="1441440"/>
            <a:ext cx="86421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9E2-DCFB-4EC9-A5D0-57BBEF2D3D89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9191520" cy="766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50920" y="1441440"/>
            <a:ext cx="86421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A63C-4B13-400F-A910-876F8AAEAB75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9191520" cy="7668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5283-2930-4B4A-A200-B377F0E66134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9191520" cy="7668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8CA0-1D49-4EE5-B7AE-BF6A66890D21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9191520" cy="7668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920" y="169560"/>
            <a:ext cx="8642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250920" y="149544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FBD3-3525-48AE-BE9E-3045CB12F326}" type="slidenum">
              <a:rPr b="0" lang="ru-RU" sz="1200" spc="-1" strike="noStrike">
                <a:solidFill>
                  <a:srgbClr val="ac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1008000" y="118080"/>
            <a:ext cx="7056360" cy="703800"/>
          </a:xfrm>
          <a:prstGeom prst="rect">
            <a:avLst/>
          </a:prstGeom>
          <a:gradFill rotWithShape="0">
            <a:gsLst>
              <a:gs pos="0">
                <a:srgbClr val="ffe3a9"/>
              </a:gs>
              <a:gs pos="100000">
                <a:srgbClr val="fff6e4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чем нужно было тратить столько сил, чтобы построить город в заболоченном устье Невы?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34920" y="156600"/>
            <a:ext cx="8785080" cy="131364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етр I переносит столицу в Санкт-Петербург, так как именно на северо-западе  России во времена Петра происходят важнейшие государственные события – создание флота, завоевание выхода в Балтийское море, развитие торговли со странами Европы. 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65" name="Picture 25" descr="C:\Users\Пользователь\Desktop\1.jpg"/>
          <p:cNvPicPr/>
          <p:nvPr/>
        </p:nvPicPr>
        <p:blipFill>
          <a:blip r:embed="rId1"/>
          <a:stretch/>
        </p:blipFill>
        <p:spPr>
          <a:xfrm>
            <a:off x="6227640" y="1474920"/>
            <a:ext cx="2737080" cy="357984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6" name="Picture 14" descr="C:\Users\Пользователь\Desktop\2.jpg"/>
          <p:cNvPicPr/>
          <p:nvPr/>
        </p:nvPicPr>
        <p:blipFill>
          <a:blip r:embed="rId2"/>
          <a:srcRect l="27865" t="20587" r="16696" b="12602"/>
          <a:stretch/>
        </p:blipFill>
        <p:spPr>
          <a:xfrm>
            <a:off x="297000" y="1511280"/>
            <a:ext cx="5670360" cy="512460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25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C:\Users\Пользователь\Desktop\2.jpg"/>
          <p:cNvPicPr/>
          <p:nvPr/>
        </p:nvPicPr>
        <p:blipFill>
          <a:blip r:embed="rId1"/>
          <a:stretch/>
        </p:blipFill>
        <p:spPr>
          <a:xfrm>
            <a:off x="5099040" y="189000"/>
            <a:ext cx="3765600" cy="640080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8" name="Прямоугольник 6"/>
          <p:cNvSpPr/>
          <p:nvPr/>
        </p:nvSpPr>
        <p:spPr>
          <a:xfrm>
            <a:off x="108000" y="981000"/>
            <a:ext cx="4751280" cy="350604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Благодаря преобразованиям Петра I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Россия превратилась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 одно из сильнейших государств Европы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8645760" cy="719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3" descr="C:\Users\Пользователь\Desktop\1.jpg"/>
          <p:cNvPicPr/>
          <p:nvPr/>
        </p:nvPicPr>
        <p:blipFill>
          <a:blip r:embed="rId2"/>
          <a:srcRect l="0" t="11957" r="12543" b="0"/>
          <a:stretch/>
        </p:blipFill>
        <p:spPr>
          <a:xfrm>
            <a:off x="179280" y="727200"/>
            <a:ext cx="2765520" cy="20872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7" name="Picture 14" descr="C:\Users\Пользователь\Desktop\2.jpg"/>
          <p:cNvPicPr/>
          <p:nvPr/>
        </p:nvPicPr>
        <p:blipFill>
          <a:blip r:embed="rId3"/>
          <a:srcRect l="13238" t="20587" r="16696" b="11679"/>
          <a:stretch/>
        </p:blipFill>
        <p:spPr>
          <a:xfrm>
            <a:off x="3132000" y="981000"/>
            <a:ext cx="2880000" cy="208764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8" name="Picture 15" descr="C:\Users\Пользователь\Desktop\3.jpg"/>
          <p:cNvPicPr/>
          <p:nvPr/>
        </p:nvPicPr>
        <p:blipFill>
          <a:blip r:embed="rId4"/>
          <a:srcRect l="0" t="0" r="6966" b="6535"/>
          <a:stretch/>
        </p:blipFill>
        <p:spPr>
          <a:xfrm>
            <a:off x="6156360" y="692280"/>
            <a:ext cx="2808360" cy="21142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9" name="Picture 16" descr="C:\Users\Пользователь\Desktop\5.jpg"/>
          <p:cNvPicPr/>
          <p:nvPr/>
        </p:nvPicPr>
        <p:blipFill>
          <a:blip r:embed="rId5"/>
          <a:srcRect l="0" t="2748" r="4643" b="7472"/>
          <a:stretch/>
        </p:blipFill>
        <p:spPr>
          <a:xfrm>
            <a:off x="3132000" y="3141720"/>
            <a:ext cx="2880000" cy="216864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0" name="Прямоугольник 12"/>
          <p:cNvSpPr/>
          <p:nvPr/>
        </p:nvSpPr>
        <p:spPr>
          <a:xfrm>
            <a:off x="3567960" y="692280"/>
            <a:ext cx="2199960" cy="39888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1" name="Прямоугольник 17"/>
          <p:cNvSpPr/>
          <p:nvPr/>
        </p:nvSpPr>
        <p:spPr>
          <a:xfrm>
            <a:off x="264960" y="2852640"/>
            <a:ext cx="2754360" cy="161856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 начала XVIII века в устье Невы были дремучие леса и непроходимые болот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6118200" y="2848680"/>
            <a:ext cx="2951280" cy="1313640"/>
          </a:xfrm>
          <a:prstGeom prst="rect">
            <a:avLst/>
          </a:prstGeom>
          <a:gradFill rotWithShape="0">
            <a:gsLst>
              <a:gs pos="0">
                <a:srgbClr val="ffe3a9"/>
              </a:gs>
              <a:gs pos="100000">
                <a:srgbClr val="fff6e4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начале XVIII века в устье Невы возникает город Санкт-Петербург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Прямоугольник 4"/>
          <p:cNvSpPr/>
          <p:nvPr/>
        </p:nvSpPr>
        <p:spPr>
          <a:xfrm>
            <a:off x="2411280" y="4340160"/>
            <a:ext cx="4321440" cy="398880"/>
          </a:xfrm>
          <a:prstGeom prst="rect">
            <a:avLst/>
          </a:prstGeom>
          <a:gradFill rotWithShape="0">
            <a:gsLst>
              <a:gs pos="0">
                <a:srgbClr val="ffe3a9"/>
              </a:gs>
              <a:gs pos="100000">
                <a:srgbClr val="fff6e4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ое вы заметили противоречие?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4" name="Прямоугольник 5"/>
          <p:cNvSpPr/>
          <p:nvPr/>
        </p:nvSpPr>
        <p:spPr>
          <a:xfrm>
            <a:off x="2843280" y="4832280"/>
            <a:ext cx="3456000" cy="398880"/>
          </a:xfrm>
          <a:prstGeom prst="rect">
            <a:avLst/>
          </a:prstGeom>
          <a:gradFill rotWithShape="0">
            <a:gsLst>
              <a:gs pos="0">
                <a:srgbClr val="deaaaa"/>
              </a:gs>
              <a:gs pos="100000">
                <a:srgbClr val="f6e8e8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ой возникает вопрос?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кругленная прямоугольная выноска 13" descr=""/>
          <p:cNvPicPr/>
          <p:nvPr/>
        </p:nvPicPr>
        <p:blipFill>
          <a:blip r:embed="rId1"/>
          <a:stretch/>
        </p:blipFill>
        <p:spPr>
          <a:xfrm>
            <a:off x="334800" y="579600"/>
            <a:ext cx="8620200" cy="441324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12" descr=""/>
          <p:cNvPicPr/>
          <p:nvPr/>
        </p:nvPicPr>
        <p:blipFill>
          <a:blip r:embed="rId2"/>
          <a:stretch/>
        </p:blipFill>
        <p:spPr>
          <a:xfrm>
            <a:off x="1225440" y="-36360"/>
            <a:ext cx="6650280" cy="645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5"/>
          <p:cNvSpPr/>
          <p:nvPr/>
        </p:nvSpPr>
        <p:spPr>
          <a:xfrm>
            <a:off x="900000" y="5265720"/>
            <a:ext cx="7488360" cy="581400"/>
          </a:xfrm>
          <a:prstGeom prst="rect">
            <a:avLst/>
          </a:prstGeom>
          <a:gradFill rotWithShape="0">
            <a:gsLst>
              <a:gs pos="0">
                <a:srgbClr val="ffe3a9"/>
              </a:gs>
              <a:gs pos="100000">
                <a:srgbClr val="fff6e4"/>
              </a:gs>
            </a:gsLst>
            <a:lin ang="16200000"/>
          </a:gradFill>
          <a:ln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ма урока: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Пётр Великий»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https://avatars.mds.yandex.net/get-zen_doc/163385/pub_5c475f5554a86e00ad0e33f1_5c4762c3a600e205805a7e82/scale_1200"/>
          <p:cNvPicPr/>
          <p:nvPr/>
        </p:nvPicPr>
        <p:blipFill>
          <a:blip r:embed="rId1"/>
          <a:stretch/>
        </p:blipFill>
        <p:spPr>
          <a:xfrm>
            <a:off x="2484360" y="60480"/>
            <a:ext cx="453564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8645760" cy="719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5" descr="C:\Users\Пользователь\Desktop\1.jpg"/>
          <p:cNvPicPr/>
          <p:nvPr/>
        </p:nvPicPr>
        <p:blipFill>
          <a:blip r:embed="rId2"/>
          <a:stretch/>
        </p:blipFill>
        <p:spPr>
          <a:xfrm>
            <a:off x="2340000" y="730080"/>
            <a:ext cx="4248000" cy="555480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http://www.roadplanet.ru/img/marks/291173/card/1353231072_7682.jpg"/>
          <p:cNvPicPr/>
          <p:nvPr/>
        </p:nvPicPr>
        <p:blipFill>
          <a:blip r:embed="rId1"/>
          <a:srcRect l="25479" t="4445" r="21246" b="10720"/>
          <a:stretch/>
        </p:blipFill>
        <p:spPr>
          <a:xfrm>
            <a:off x="1762200" y="189000"/>
            <a:ext cx="5306760" cy="6335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https://f.otzyv.ru/f/12/12/116359/31539/19081420522812.jpg"/>
          <p:cNvPicPr/>
          <p:nvPr/>
        </p:nvPicPr>
        <p:blipFill>
          <a:blip r:embed="rId2"/>
          <a:srcRect l="0" t="0" r="17105" b="0"/>
          <a:stretch/>
        </p:blipFill>
        <p:spPr>
          <a:xfrm>
            <a:off x="1390680" y="189000"/>
            <a:ext cx="6049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3" descr="C:\Users\Пользователь\Desktop\1.jpg"/>
          <p:cNvPicPr/>
          <p:nvPr/>
        </p:nvPicPr>
        <p:blipFill>
          <a:blip r:embed="rId1"/>
          <a:srcRect l="0" t="11957" r="12543" b="0"/>
          <a:stretch/>
        </p:blipFill>
        <p:spPr>
          <a:xfrm>
            <a:off x="179280" y="692280"/>
            <a:ext cx="2765520" cy="20872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4" name="Picture 14" descr="C:\Users\Пользователь\Desktop\2.jpg"/>
          <p:cNvPicPr/>
          <p:nvPr/>
        </p:nvPicPr>
        <p:blipFill>
          <a:blip r:embed="rId2"/>
          <a:srcRect l="13238" t="20587" r="16696" b="11679"/>
          <a:stretch/>
        </p:blipFill>
        <p:spPr>
          <a:xfrm>
            <a:off x="3132000" y="981000"/>
            <a:ext cx="2880000" cy="208764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5" name="Picture 15" descr="C:\Users\Пользователь\Desktop\3.jpg"/>
          <p:cNvPicPr/>
          <p:nvPr/>
        </p:nvPicPr>
        <p:blipFill>
          <a:blip r:embed="rId3"/>
          <a:srcRect l="0" t="0" r="6966" b="6535"/>
          <a:stretch/>
        </p:blipFill>
        <p:spPr>
          <a:xfrm>
            <a:off x="6156360" y="692280"/>
            <a:ext cx="2808360" cy="21142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6" name="Picture 16" descr="C:\Users\Пользователь\Desktop\5.jpg"/>
          <p:cNvPicPr/>
          <p:nvPr/>
        </p:nvPicPr>
        <p:blipFill>
          <a:blip r:embed="rId4"/>
          <a:srcRect l="0" t="2748" r="4643" b="7472"/>
          <a:stretch/>
        </p:blipFill>
        <p:spPr>
          <a:xfrm>
            <a:off x="3132000" y="3141720"/>
            <a:ext cx="2880000" cy="216864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7" name="Прямоугольник 12"/>
          <p:cNvSpPr/>
          <p:nvPr/>
        </p:nvSpPr>
        <p:spPr>
          <a:xfrm>
            <a:off x="3070800" y="312840"/>
            <a:ext cx="2994120" cy="52056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Прямоугольник 17"/>
          <p:cNvSpPr/>
          <p:nvPr/>
        </p:nvSpPr>
        <p:spPr>
          <a:xfrm>
            <a:off x="112680" y="2852640"/>
            <a:ext cx="3019320" cy="192276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 начала XVIII века в устье Невы были дремучие леса и непроходимые болота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6084720" y="3017880"/>
            <a:ext cx="2951280" cy="1557000"/>
          </a:xfrm>
          <a:prstGeom prst="rect">
            <a:avLst/>
          </a:prstGeom>
          <a:gradFill rotWithShape="0">
            <a:gsLst>
              <a:gs pos="0">
                <a:srgbClr val="ffe3a9"/>
              </a:gs>
              <a:gs pos="100000">
                <a:srgbClr val="fff6e4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начале XVIII века в устье Невы возникает город Санкт-Петербург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50" name="Скругленная прямоугольная выноска 13" descr=""/>
          <p:cNvPicPr/>
          <p:nvPr/>
        </p:nvPicPr>
        <p:blipFill>
          <a:blip r:embed="rId5"/>
          <a:stretch/>
        </p:blipFill>
        <p:spPr>
          <a:xfrm>
            <a:off x="334800" y="774720"/>
            <a:ext cx="86202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8645760" cy="719280"/>
          </a:xfrm>
          <a:prstGeom prst="rect">
            <a:avLst/>
          </a:prstGeom>
          <a:ln w="0">
            <a:noFill/>
          </a:ln>
        </p:spPr>
      </p:pic>
      <p:sp>
        <p:nvSpPr>
          <p:cNvPr id="452" name="TextBox 3"/>
          <p:cNvSpPr/>
          <p:nvPr/>
        </p:nvSpPr>
        <p:spPr>
          <a:xfrm>
            <a:off x="179280" y="9360"/>
            <a:ext cx="8785440" cy="100872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начале XVIII века земли по берегам Балтийского моря принадлежали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ролевству Швеция. Пётр I начал войну за выход к Балтике и после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яжёлой изнурительной борьбы одержал победу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53" name="Picture 6" descr="C:\Users\Пользователь\Desktop\1.jpg"/>
          <p:cNvPicPr/>
          <p:nvPr/>
        </p:nvPicPr>
        <p:blipFill>
          <a:blip r:embed="rId2"/>
          <a:stretch/>
        </p:blipFill>
        <p:spPr>
          <a:xfrm>
            <a:off x="15840" y="2997360"/>
            <a:ext cx="4753080" cy="30556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4" name="Picture 5" descr="C:\Users\Пользователь\Desktop\5.jpg"/>
          <p:cNvPicPr/>
          <p:nvPr/>
        </p:nvPicPr>
        <p:blipFill>
          <a:blip r:embed="rId3"/>
          <a:stretch/>
        </p:blipFill>
        <p:spPr>
          <a:xfrm>
            <a:off x="4408560" y="3141720"/>
            <a:ext cx="4656240" cy="305100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5" name="Picture 7" descr="C:\Users\Пользователь\Desktop\4.jpg"/>
          <p:cNvPicPr/>
          <p:nvPr/>
        </p:nvPicPr>
        <p:blipFill>
          <a:blip r:embed="rId4"/>
          <a:stretch/>
        </p:blipFill>
        <p:spPr>
          <a:xfrm>
            <a:off x="4560840" y="1104840"/>
            <a:ext cx="3911760" cy="280044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6" name="Picture 9" descr="C:\Users\Пользователь\Desktop\1.jpg"/>
          <p:cNvPicPr/>
          <p:nvPr/>
        </p:nvPicPr>
        <p:blipFill>
          <a:blip r:embed="rId5"/>
          <a:stretch/>
        </p:blipFill>
        <p:spPr>
          <a:xfrm>
            <a:off x="1200240" y="1042920"/>
            <a:ext cx="3254400" cy="28306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8645760" cy="719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C:\Users\Пользователь\Desktop\1.jpg"/>
          <p:cNvPicPr/>
          <p:nvPr/>
        </p:nvPicPr>
        <p:blipFill>
          <a:blip r:embed="rId2"/>
          <a:srcRect l="0" t="11446" r="0" b="0"/>
          <a:stretch/>
        </p:blipFill>
        <p:spPr>
          <a:xfrm>
            <a:off x="2685960" y="838080"/>
            <a:ext cx="3745080" cy="42292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9" name="Picture 8" descr="C:\Users\Пользователь\Desktop\4.jpg"/>
          <p:cNvPicPr/>
          <p:nvPr/>
        </p:nvPicPr>
        <p:blipFill>
          <a:blip r:embed="rId3"/>
          <a:srcRect l="22687" t="2520" r="11169" b="16843"/>
          <a:stretch/>
        </p:blipFill>
        <p:spPr>
          <a:xfrm>
            <a:off x="174600" y="804960"/>
            <a:ext cx="2521080" cy="23050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0" name="TextBox 8"/>
          <p:cNvSpPr/>
          <p:nvPr/>
        </p:nvSpPr>
        <p:spPr>
          <a:xfrm>
            <a:off x="273240" y="3108240"/>
            <a:ext cx="2323440" cy="39888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дреевский флаг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1" name="TextBox 9"/>
          <p:cNvSpPr/>
          <p:nvPr/>
        </p:nvSpPr>
        <p:spPr>
          <a:xfrm>
            <a:off x="6707160" y="2671920"/>
            <a:ext cx="2161800" cy="39888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оссийский флаг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62" name="Picture 9" descr="C:\Users\Пользователь\Desktop\3.jpg"/>
          <p:cNvPicPr/>
          <p:nvPr/>
        </p:nvPicPr>
        <p:blipFill>
          <a:blip r:embed="rId4"/>
          <a:stretch/>
        </p:blipFill>
        <p:spPr>
          <a:xfrm>
            <a:off x="6184800" y="763560"/>
            <a:ext cx="2959200" cy="197316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00:09Z</dcterms:created>
  <dc:creator>Telli</dc:creator>
  <dc:description/>
  <dc:language>en-US</dc:language>
  <cp:lastModifiedBy>Natalya</cp:lastModifiedBy>
  <dcterms:modified xsi:type="dcterms:W3CDTF">2025-03-03T17:43:30Z</dcterms:modified>
  <cp:revision>373</cp:revision>
  <dc:subject/>
  <dc:title>КАК ЗАГЛЯНУТЬ В ПРОШЛОЕ</dc:title>
</cp:coreProperties>
</file>